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5.jpeg" ContentType="image/jpeg"/>
  <Override PartName="/ppt/media/image9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13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FAD-0490-4C80-B48D-1665264B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DC0-8E9B-4997-94F5-675CC8D0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D8D-0C6F-43A4-BAE1-B1A8160C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F37C-240B-455D-807D-68A31497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EEF-C3A3-4B7F-9B99-601D21AC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A2E-6BBD-445C-BA56-E6F63AAF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204-5247-4CDE-A6F1-7C8F902D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FE5-055D-41A5-A05E-7CA40FFE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EFD-9DF9-494E-BCBC-A59169A9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DB3-F57B-4FB9-A008-9BD91EF0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162-1066-4E84-8C9A-401F38B1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D32-EC2E-480E-B1D5-7C7852E8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4CF8-22AF-41AB-BB2A-02F87ADBC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image" Target="../media/image10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920" y="2492280"/>
            <a:ext cx="662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бесПолезные сове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1280" y="0"/>
            <a:ext cx="770580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а пожарно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безопасност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26920" y="0"/>
            <a:ext cx="770580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а пожарно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безопасност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206064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(бесПолезные сове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3860640"/>
            <a:ext cx="3529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боту выполн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еники 6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У СОШ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Яковлев Дмитр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хратский Константи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импоеш Андр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8000" y="6308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. Нижние Серги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564000" y="4005360"/>
            <a:ext cx="3128760" cy="2678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484360" y="5445000"/>
            <a:ext cx="1038240" cy="1171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284720" y="6102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58920" y="517680"/>
            <a:ext cx="6162480" cy="6340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4360" y="0"/>
            <a:ext cx="813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Ну а если ты увидел, что пожар случился где-то –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Не спеши звонить в пожарку, набирая ноль-один.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Пусть немного разгорится, пусть народ повеселится,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А то быстро всё потушат – будет не на что смотреть.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67280" y="3573360"/>
            <a:ext cx="266832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47640" y="517680"/>
            <a:ext cx="6162840" cy="6340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Если ты в учережденьи вдруг заметил дым и пламя –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Тихо сматывай из зданья, никому не надо знать.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А не то бардак начнется, люди к выходу попрутся,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И тебя собьют, затопчут, и оставят погибать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26560" y="40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ы прочти-ка на досуге бесполезные со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  узнаешь о пожаре очень многое, мой д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 любой вопрос, конечно, не отыщешь ты отв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о, быть может, что-нибудь да пригодится тебе вд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у а если так случится: тебя сильно припечет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ы, учтя советы эт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4005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делай все наоборо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ы прочти-ка на досуге бесполезные сов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  узнаешь о пожаре очень многое, мой д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 любой вопрос, конечно, не отыщешь ты  отве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о, быть может, что-нибудь да пригодится тебе вд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у а если так случится: тебя сильно припечет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ы, учтя советы эти,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делай все наоборо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24360" y="3573360"/>
            <a:ext cx="1636560" cy="299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6162840" cy="6340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71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Ежели в твоей квартире свет погаснет                          вдруг внезапно,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Не волнуйся – это просто пробки нужно поменять.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Ты берешь потолще гвоздик и вставляешь вместо пробки,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И тогда в твоей квартире будет жарко и свет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80000" y="3860640"/>
            <a:ext cx="2160360" cy="26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6162840" cy="6340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9640" y="260280"/>
            <a:ext cx="792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Если ты погладил брюки, галстук, майку и рубашку,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И спешишь уйти пораньше – ты утюг не отключай.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Вдруг он завтра пригодится снова что-нибудь погладить,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Если только от квартиры что-нибудь останется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Если вдруг похолодало – растопляй скорее печку,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Дров пихни побольше в топку, керосинчиком полей,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Ну а что б теплее было – закрывать не надо дверцу –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Скоро станет всем теплее, и светлей, и веселей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2024280" cy="2060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3573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211640" y="4065480"/>
            <a:ext cx="1784520" cy="2792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835280" y="517680"/>
            <a:ext cx="6162480" cy="6340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333360"/>
            <a:ext cx="6949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Ну а коль мороз в квартире и не греют батареи,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То электронагреватель ты обязан сделать сам: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Ты возьми спираль потолще, накрути на табуретку,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И воткни ее в розетку – дальше сам увидишь вс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1393920" cy="3024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08000" y="517680"/>
            <a:ext cx="6162840" cy="6340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Если праздник новогодний – ты укрась свечами елку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И игрушками из ваты, чтобы было веселей.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А когда приедут гости – дружно свечи зажигайте,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Будет праздник самый славный для тебя и для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84360" y="4149720"/>
            <a:ext cx="3167280" cy="2346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92360" y="517680"/>
            <a:ext cx="6162480" cy="6340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Если ты не знаешь, сколько в этой бочке керосина,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Открути смелее пробку, спичкой посвети туда.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И тогда-то ты узнаешь – керосина было много,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Только он тебе не нужен больше будет никогд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51280" y="3860640"/>
            <a:ext cx="2604960" cy="2786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211640" y="515772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195640" y="517680"/>
            <a:ext cx="6162480" cy="634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Ну а если ты с друзьями, отдохнувши на природе,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Вдруг домой засобирался – не спеши костер тушить.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Что напрасно напрягаться? – Ну сгорит гектарчик леса,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Зато завтра в этом месте много жареных грибов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8:10:16Z</dcterms:created>
  <dc:creator>лариса</dc:creator>
  <dc:description/>
  <dc:language>en-US</dc:language>
  <cp:lastModifiedBy>Admin</cp:lastModifiedBy>
  <dcterms:modified xsi:type="dcterms:W3CDTF">2009-10-29T20:26:32Z</dcterms:modified>
  <cp:revision>3</cp:revision>
  <dc:subject/>
  <dc:title>Слайд 1</dc:title>
</cp:coreProperties>
</file>